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B92-9A59-4302-95CC-AD9CD51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B5A-C802-4DD5-A6A0-906D192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463-CAAA-480C-A1A3-D3B063D5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2A6-7416-4F4F-8834-DC415358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C0A-269A-44E6-8E19-AA8AC07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C0D-BD99-4ACE-B7C2-4BD4B2AC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968-832F-40F7-AA92-0FF75FCF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4A8-4EF8-4174-9232-351812E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EA9-26A4-4A00-B94D-86535540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6B5-322D-4281-93B3-B79B51B0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804-0380-4DA6-B380-DBD76D8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2FB-2452-4E92-8919-20943DB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507-2F5F-4B40-BF47-BE772C5876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squema de Prestaciones de invalidez y muerte de los subsistemas de la Seguridad Social y la legislación laboral. Problemas y lineamientos de un nuevo diseñ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3560" y="5420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celo Al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eficienci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Incentivos distorsivos y comportamientos oportunistas, litigiosidad, superposición de gastos administ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equidad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: Ante igual contingencia diferente cobertura según el or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ineamientos de un nuevo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ablecer las prestaciones en función de la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necesidad del siniestrado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no por el origen del sinie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signar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onsabilidades de gestión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la cobertura por origen de la contingencia (laboral - no labor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vitar la superposición, incrementar la cobertura y; reducir instituciones, entidades y organismos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0" y="42840"/>
          <a:ext cx="9144000" cy="6799320"/>
        </p:xfrm>
        <a:graphic>
          <a:graphicData uri="http://schemas.openxmlformats.org/drawingml/2006/table">
            <a:tbl>
              <a:tblPr/>
              <a:tblGrid>
                <a:gridCol w="3921120"/>
                <a:gridCol w="2610000"/>
                <a:gridCol w="2612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c0000"/>
                          </a:solidFill>
                          <a:latin typeface="Arial"/>
                          <a:ea typeface="Times New Roman"/>
                        </a:rPr>
                        <a:t>Condición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c0000"/>
                          </a:solidFill>
                          <a:latin typeface="Arial"/>
                          <a:ea typeface="Times New Roman"/>
                        </a:rPr>
                        <a:t>Ocupados Registrados: trabajadores en relación de dependencia y trabajadores por cuenta propia (con siniestros del ámbito no labo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aleza del sinies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i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Empl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mpleado/Empl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idad Ges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FJ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 de elegibi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Desde el primer día de la relación lab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Las condiciones actuales de acceso a Benef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apacidad Tem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 del ingreso base, con un período de carencia de los primeros 10 dí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 Permanente Parcial Provisoria -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ingreso base * Porcentaje inc. (por 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Parcial Definitiva -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go Unico: 53 * el ingreso base * porcentaje de incapacidad * el coeficiente de 65 sobre la edad. tope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Parcial Definitiva +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so base * porcentaje de incapacidad  (hasta la jubilación)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Total Provisoria +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(durante 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. Permanente Total Definitiva +6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(hasta la jubilación)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n Invali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 del ingreso base + 3 AMPOS + prestación adicional de ???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 del ingreso base cónyuge y 14% del ingreso base hijo menor + prestación adicional de ???$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5" name=""/>
          <p:cNvSpPr/>
          <p:nvPr/>
        </p:nvSpPr>
        <p:spPr>
          <a:xfrm>
            <a:off x="-2309760" y="64173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-2311560" y="68994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330200" y="1700280"/>
            <a:ext cx="68421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41480" y="1973160"/>
            <a:ext cx="68421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l como vimos el esquema actual tiene superposiciones y vacíos de cober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presentado un nuevo esquema de beneficios que se basa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plificar del esquema actual de beneficios por las contingencias de invalidez y muer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cuar las prestaciones a las necesidades de los siniestrados, y no por el origen del siniest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rindar una gestión más eficiente del sis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costo incremental de este nuevo diseño es de  0,7% de la masa salarial. Aunque existen perdedores y ganadores, según las intensidades que se defin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c0000"/>
                </a:solidFill>
                <a:latin typeface="Arial"/>
              </a:rPr>
              <a:t>Sin embargo; subsiste un problema en cualquiera de los esquemas presentados para una </a:t>
            </a:r>
            <a:r>
              <a:rPr b="1" i="1" lang="es-ES_tradnl" sz="3200" spc="-1" strike="noStrike">
                <a:solidFill>
                  <a:srgbClr val="fc0000"/>
                </a:solidFill>
                <a:latin typeface="Arial"/>
              </a:rPr>
              <a:t>gran cantidad de trabajadores que están fuera del mercado formal</a:t>
            </a:r>
            <a:r>
              <a:rPr b="0" i="1" lang="es-ES_tradnl" sz="3200" spc="-1" strike="noStrike">
                <a:solidFill>
                  <a:srgbClr val="f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otivación y Marco de Ref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esentación del problema y sus consecu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ineamientos de un nuevo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stos comparativos (MUY PRELIMINARES!!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clu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tentamos promover el debate sobre el diseño de acceso y monto de las prestaciones de invalidez y muerte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foque económ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qué se tr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trabajador se expone a contingencias que afectan la capacidad laboral y por lo tanto el flujo de ingr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os referimos a las contingencias de invalidez y muerte de los trabajadores a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os siniestros pueden provenir de las tareas desarrolladas debido a sus actividades laborales o fuera del ámbito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orque el Esta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cualquier caso el Estado busca establecer los mecanismos para mantener el flujo de ingresos ante estos ev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intervención se da, entre otras cosas, debido a la falta de un mercado asegurador eficiente que mantenga el flujo de ingr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ómo lo h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Argentina existen básicamente dos regimenes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 cubren de manera diferente según las contingencias provengan del ámbito laboral o no lab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 de Riesgos del Trabajo N° 24.557 (LRT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eventos de muerte e invalidez producidos por el desarrol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reas labor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o accidentes in itine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Integrado de Jubilaciones y Pensiones (SIJP) Ley 24.24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os eventos de muerte e invalidez producid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era del ámbito labo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demás de la vejez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ómo lo h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su vez, de manera transversal traspasan ambos subsistemas las prestaciones prevista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y de Contrato de Trabajo (LCT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y de Obras Sociales (L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nios Colectivos de Trabajo (CCT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eguro de Vida Obligatorio (S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ual es el proble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diseño responde a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rig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contingencia y no al objetivo de proteger la necesidad del trabajador expuesto a una disminución de su capacidad de generar ingres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esta manera se presenta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perposi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beneficios y prestaciones y en otros casos, existen u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cíos de cober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Veam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05040" y="52815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78920" y="1995480"/>
            <a:ext cx="6685560" cy="996840"/>
            <a:chOff x="1078920" y="1995480"/>
            <a:chExt cx="6685560" cy="996840"/>
          </a:xfrm>
        </p:grpSpPr>
        <p:sp>
          <p:nvSpPr>
            <p:cNvPr id="60" name=""/>
            <p:cNvSpPr/>
            <p:nvPr/>
          </p:nvSpPr>
          <p:spPr>
            <a:xfrm>
              <a:off x="4333680" y="2022480"/>
              <a:ext cx="202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igen de la contin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4400" y="2022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57200" y="19954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0" y="19954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7200" y="19954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7200" y="19954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7200" y="19954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78080" y="19954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8080" y="19954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2600" y="20160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2600" y="20160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2600" y="19954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2600" y="1995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2600" y="19954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13120" y="1995480"/>
              <a:ext cx="4830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13120" y="1995480"/>
              <a:ext cx="4830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43960" y="19954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43960" y="19954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43960" y="19954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3960" y="1995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3960" y="19954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7200" y="2017800"/>
              <a:ext cx="2088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57200" y="2017800"/>
              <a:ext cx="180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92600" y="2017800"/>
              <a:ext cx="2052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92600" y="2017800"/>
              <a:ext cx="144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43960" y="2017800"/>
              <a:ext cx="20520" cy="19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43960" y="2017800"/>
              <a:ext cx="144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36440" y="224460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17120" y="2244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54120" y="224460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 lab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9360" y="2244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7200" y="221760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57200" y="221760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2600" y="2217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2600" y="2217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3120" y="2217600"/>
              <a:ext cx="22305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3120" y="2217600"/>
              <a:ext cx="223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3680" y="223848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3680" y="22384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3680" y="2217600"/>
              <a:ext cx="205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3680" y="22176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43680" y="221760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64200" y="2217600"/>
              <a:ext cx="25797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4200" y="2217600"/>
              <a:ext cx="2579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43960" y="2217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3960" y="2217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57200" y="2239920"/>
              <a:ext cx="2088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57200" y="2239920"/>
              <a:ext cx="180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260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260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4368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4368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43960" y="2239920"/>
              <a:ext cx="20520" cy="19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43960" y="2239920"/>
              <a:ext cx="1440" cy="1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00760" y="2022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41760" y="22226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o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42320" y="24224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in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1880" y="2422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246708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ner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408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41800" y="246708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espec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29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20520" y="246708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nera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432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86640" y="246708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 espec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47760" y="246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57200" y="24382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57200" y="2438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260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260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3120" y="2438280"/>
              <a:ext cx="1073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3120" y="2438280"/>
              <a:ext cx="10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86280" y="246060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86280" y="2460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62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6280" y="2438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862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6800" y="2438280"/>
              <a:ext cx="1136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06800" y="2438280"/>
              <a:ext cx="113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36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36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64200" y="243828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4200" y="2438280"/>
              <a:ext cx="130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3880" y="246060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3880" y="2460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388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3880" y="2438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88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4400" y="2438280"/>
              <a:ext cx="1249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4400" y="2438280"/>
              <a:ext cx="124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43960" y="2438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43960" y="2438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7200" y="2460600"/>
              <a:ext cx="2088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7200" y="2460600"/>
              <a:ext cx="180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57200" y="28479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57200" y="28479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57200" y="28479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57200" y="28479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57200" y="28479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28479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8080" y="284796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8080" y="284796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260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9260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260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260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260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13120" y="284796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3120" y="284796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862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62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862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862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862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06800" y="284796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6800" y="284796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36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436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436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436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36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64200" y="284796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64200" y="284796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388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388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7388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388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7388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94400" y="284796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94400" y="284796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43960" y="2460600"/>
              <a:ext cx="20520" cy="3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3960" y="2460600"/>
              <a:ext cx="144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4396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396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396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43960" y="28479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3960" y="28479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43960" y="28479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78920" y="28702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78920" y="2870280"/>
            <a:ext cx="6685560" cy="564840"/>
            <a:chOff x="1078920" y="2870280"/>
            <a:chExt cx="6685560" cy="564840"/>
          </a:xfrm>
        </p:grpSpPr>
        <p:sp>
          <p:nvSpPr>
            <p:cNvPr id="200" name=""/>
            <p:cNvSpPr/>
            <p:nvPr/>
          </p:nvSpPr>
          <p:spPr>
            <a:xfrm>
              <a:off x="1378080" y="2892600"/>
              <a:ext cx="237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68480" y="2892600"/>
              <a:ext cx="241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01840" y="2892600"/>
              <a:ext cx="14666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97160" y="289728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1840" y="3092400"/>
              <a:ext cx="146664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98960" y="3097080"/>
              <a:ext cx="91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por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9960" y="309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31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13120" y="3092400"/>
              <a:ext cx="107316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36880" y="2892600"/>
              <a:ext cx="10256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428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1404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06800" y="2892600"/>
              <a:ext cx="223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9560" y="2892600"/>
              <a:ext cx="241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06800" y="3092400"/>
              <a:ext cx="113688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9120" y="2892600"/>
              <a:ext cx="109044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0964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420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5012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64200" y="3092400"/>
              <a:ext cx="130968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7960" y="2892600"/>
              <a:ext cx="12621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4160" y="289728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8248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94400" y="2892600"/>
              <a:ext cx="2376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19840" y="2892600"/>
              <a:ext cx="2412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94400" y="3092400"/>
              <a:ext cx="1249560" cy="196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18160" y="2892600"/>
              <a:ext cx="1201680" cy="199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2280" y="289728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44640" y="2897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57200" y="287028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7200" y="287028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57200" y="2870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28702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57200" y="2870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8080" y="28702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8080" y="28702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8080" y="2890800"/>
              <a:ext cx="151452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260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260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260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260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260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13120" y="28702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3120" y="287028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3120" y="2890800"/>
              <a:ext cx="10731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862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862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862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62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862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06800" y="28702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6800" y="287028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6800" y="2890800"/>
              <a:ext cx="11368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36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436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436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436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436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64200" y="28702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64200" y="287028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64200" y="2890800"/>
              <a:ext cx="13096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3880" y="289080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3880" y="28908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388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388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388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94400" y="28702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94400" y="287028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94400" y="2890800"/>
              <a:ext cx="12495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43960" y="287028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43960" y="287028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43960" y="2870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43960" y="28702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43960" y="2870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57200" y="2892600"/>
              <a:ext cx="2088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289260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57200" y="328932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57200" y="328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57200" y="32893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57200" y="328932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57200" y="328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328932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8080" y="3289320"/>
              <a:ext cx="1514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8080" y="32893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260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260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260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260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9260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13120" y="3289320"/>
              <a:ext cx="1073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3120" y="32893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862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862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862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862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862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06800" y="3289320"/>
              <a:ext cx="1136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06800" y="32893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36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436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36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436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36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64200" y="328932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64200" y="32893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7388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7388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7388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7388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388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94400" y="3289320"/>
              <a:ext cx="1249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4400" y="32893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43960" y="2892600"/>
              <a:ext cx="2052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43960" y="289260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396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396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4396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3960" y="328932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43960" y="328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43960" y="328932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78920" y="33130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78920" y="3278160"/>
            <a:ext cx="6685560" cy="610920"/>
            <a:chOff x="1078920" y="3278160"/>
            <a:chExt cx="6685560" cy="610920"/>
          </a:xfrm>
        </p:grpSpPr>
        <p:sp>
          <p:nvSpPr>
            <p:cNvPr id="324" name=""/>
            <p:cNvSpPr/>
            <p:nvPr/>
          </p:nvSpPr>
          <p:spPr>
            <a:xfrm>
              <a:off x="1394640" y="3303720"/>
              <a:ext cx="150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h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0040" y="350352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 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2840" y="3503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84280" y="3303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140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5720" y="3303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840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72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2280" y="33037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44640" y="3303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57200" y="32781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7200" y="32781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7200" y="327816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57200" y="327816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327816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8080" y="327816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8080" y="327816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9260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9260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9260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260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9260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13120" y="327816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13120" y="327816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862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862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862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862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862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6800" y="327816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06800" y="327816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36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436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36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36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36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4200" y="327816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64200" y="327816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3880" y="329868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3880" y="3298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7388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388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94400" y="327816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94400" y="327816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4396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4396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43960" y="32781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43960" y="32781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43960" y="327816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57200" y="3298680"/>
              <a:ext cx="2088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57200" y="3298680"/>
              <a:ext cx="180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57200" y="3743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57200" y="37432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57200" y="3743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57200" y="37432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57200" y="374328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57200" y="37432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78080" y="37432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78080" y="3743280"/>
              <a:ext cx="15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9260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60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9260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9260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260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13120" y="37432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3120" y="3743280"/>
              <a:ext cx="1073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862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862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62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862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62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06800" y="37432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06800" y="3743280"/>
              <a:ext cx="113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436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436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436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36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436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64200" y="37432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4200" y="3743280"/>
              <a:ext cx="1309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388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388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388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388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388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94400" y="37432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94400" y="3743280"/>
              <a:ext cx="124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3960" y="3298680"/>
              <a:ext cx="2052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43960" y="3298680"/>
              <a:ext cx="144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396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4396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3960" y="37432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43960" y="37432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43960" y="37432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78920" y="3767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078920" y="3684600"/>
            <a:ext cx="6685560" cy="609480"/>
            <a:chOff x="1078920" y="3684600"/>
            <a:chExt cx="6685560" cy="609480"/>
          </a:xfrm>
        </p:grpSpPr>
        <p:sp>
          <p:nvSpPr>
            <p:cNvPr id="422" name=""/>
            <p:cNvSpPr/>
            <p:nvPr/>
          </p:nvSpPr>
          <p:spPr>
            <a:xfrm>
              <a:off x="1378080" y="3706920"/>
              <a:ext cx="237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68480" y="3706920"/>
              <a:ext cx="241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8080" y="4103640"/>
              <a:ext cx="1514520" cy="46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840" y="3706920"/>
              <a:ext cx="1466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95000" y="3711600"/>
              <a:ext cx="155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del 2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01840" y="3905280"/>
              <a:ext cx="1466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0040" y="3909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 6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2840" y="3909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131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625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3120" y="3905280"/>
              <a:ext cx="107316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6880" y="370692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84280" y="371160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140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6800" y="3706920"/>
              <a:ext cx="223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19560" y="3706920"/>
              <a:ext cx="241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06800" y="3905280"/>
              <a:ext cx="113688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29120" y="3706920"/>
              <a:ext cx="10904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55720" y="371160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840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6420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5012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64200" y="3905280"/>
              <a:ext cx="130968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7960" y="3706920"/>
              <a:ext cx="12621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72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94400" y="3706920"/>
              <a:ext cx="237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19840" y="3706920"/>
              <a:ext cx="2412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94400" y="3905280"/>
              <a:ext cx="1249560" cy="244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18160" y="3706920"/>
              <a:ext cx="120168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92280" y="37116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44640" y="371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7200" y="3684600"/>
              <a:ext cx="20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7200" y="368460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7200" y="368460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7200" y="368460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57200" y="36846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8080" y="368460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78080" y="368460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8080" y="3705120"/>
              <a:ext cx="151452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9260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9260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260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9260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9260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13120" y="368460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13120" y="368460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3120" y="3705120"/>
              <a:ext cx="10731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862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862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862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62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862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06800" y="368460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06800" y="368460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06800" y="3705120"/>
              <a:ext cx="11368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436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436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436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436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64200" y="368460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4200" y="368460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64200" y="3705120"/>
              <a:ext cx="130968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73880" y="370512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73880" y="37051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7388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7388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7388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94400" y="368460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4400" y="368460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94400" y="3705120"/>
              <a:ext cx="1249560" cy="1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43960" y="3684600"/>
              <a:ext cx="20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43960" y="368460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43960" y="36846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43960" y="36846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3960" y="368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57200" y="3706920"/>
              <a:ext cx="2088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7200" y="3706920"/>
              <a:ext cx="180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8080" y="4149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378080" y="4149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9260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260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260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260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9260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13120" y="4149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3120" y="4149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862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862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862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862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62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06800" y="4149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06800" y="4149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36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436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436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436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436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4200" y="4149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64200" y="4149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7388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7388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38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738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738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94400" y="4149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4400" y="4149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43960" y="3706920"/>
              <a:ext cx="20520" cy="44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43960" y="3706920"/>
              <a:ext cx="1440" cy="44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78920" y="4172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078920" y="4149720"/>
            <a:ext cx="6685560" cy="720360"/>
            <a:chOff x="1078920" y="4149720"/>
            <a:chExt cx="6685560" cy="720360"/>
          </a:xfrm>
        </p:grpSpPr>
        <p:sp>
          <p:nvSpPr>
            <p:cNvPr id="546" name=""/>
            <p:cNvSpPr/>
            <p:nvPr/>
          </p:nvSpPr>
          <p:spPr>
            <a:xfrm>
              <a:off x="1396080" y="4176720"/>
              <a:ext cx="141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apacidad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7236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92040" y="41767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SIJP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56400" y="437508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40840" y="4375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09640" y="41767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3940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59600" y="4176720"/>
              <a:ext cx="864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JP, LC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7452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2280" y="41767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44640" y="41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57200" y="4149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57200" y="4149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57200" y="4149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8080" y="4149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8080" y="4149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9260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260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9260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9260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9260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13120" y="4149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13120" y="4149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62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862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862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862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862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06800" y="4149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06800" y="4149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436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436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436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436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436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64200" y="4149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64200" y="4149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3880" y="4170240"/>
              <a:ext cx="2052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3880" y="4170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388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7388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7388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94400" y="4149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94400" y="4149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43960" y="414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43960" y="4149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43960" y="4149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57200" y="4170240"/>
              <a:ext cx="2088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57200" y="4170240"/>
              <a:ext cx="180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57200" y="47260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57200" y="47260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57200" y="47260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57200" y="472608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57200" y="47260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57200" y="472608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8080" y="472608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8080" y="472608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9260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9260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9260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9260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260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13120" y="472608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3120" y="472608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62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862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862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862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862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6800" y="472608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06800" y="472608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436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436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436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436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436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64200" y="472608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4200" y="472608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388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388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7388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388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7388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94400" y="472608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94400" y="472608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43960" y="4170240"/>
              <a:ext cx="20520" cy="5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43960" y="4170240"/>
              <a:ext cx="1440" cy="55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4396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396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396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3960" y="472608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3960" y="4726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43960" y="472608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78920" y="47480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1078920" y="4729320"/>
            <a:ext cx="6685560" cy="763200"/>
            <a:chOff x="1078920" y="4729320"/>
            <a:chExt cx="6685560" cy="763200"/>
          </a:xfrm>
        </p:grpSpPr>
        <p:sp>
          <p:nvSpPr>
            <p:cNvPr id="645" name=""/>
            <p:cNvSpPr/>
            <p:nvPr/>
          </p:nvSpPr>
          <p:spPr>
            <a:xfrm>
              <a:off x="1378080" y="4749840"/>
              <a:ext cx="237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6848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78080" y="4950000"/>
              <a:ext cx="151452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01840" y="4749840"/>
              <a:ext cx="14666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9680" y="475452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e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4076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13120" y="4749840"/>
              <a:ext cx="23760" cy="596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62520" y="4749840"/>
              <a:ext cx="23760" cy="596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36880" y="4749840"/>
              <a:ext cx="10256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92040" y="47545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SIJP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36880" y="495000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62800" y="4954680"/>
              <a:ext cx="91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CT, SV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36880" y="5148360"/>
              <a:ext cx="102564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70240" y="5153040"/>
              <a:ext cx="36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26640" y="51530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06800" y="4749840"/>
              <a:ext cx="223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1956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06800" y="4950000"/>
              <a:ext cx="113688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29120" y="4749840"/>
              <a:ext cx="109044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82120" y="475452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RT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96656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64200" y="4749840"/>
              <a:ext cx="23760" cy="398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50120" y="4749840"/>
              <a:ext cx="23760" cy="398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64200" y="5148360"/>
              <a:ext cx="130968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87960" y="4749840"/>
              <a:ext cx="12621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62280" y="4754520"/>
              <a:ext cx="91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JP, LCT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87960" y="4950000"/>
              <a:ext cx="1262160" cy="19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4200" y="4954680"/>
              <a:ext cx="84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VO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93520" y="495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94400" y="4749840"/>
              <a:ext cx="2376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9840" y="4749840"/>
              <a:ext cx="2412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94400" y="4950000"/>
              <a:ext cx="1249560" cy="396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8160" y="4749840"/>
              <a:ext cx="1201680" cy="200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64400" y="475452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S, C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71440" y="475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57200" y="47293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57200" y="47293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57200" y="47293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57200" y="47293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57200" y="47293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78080" y="47293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78080" y="47293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8080" y="4749840"/>
              <a:ext cx="151452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9260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9260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9260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260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9260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13120" y="47293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13120" y="47293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13120" y="4749840"/>
              <a:ext cx="107316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862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862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862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862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862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006800" y="47293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06800" y="47293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06800" y="4749840"/>
              <a:ext cx="113688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436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436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436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436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36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4200" y="47293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64200" y="47293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164200" y="4749840"/>
              <a:ext cx="130968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73880" y="4749840"/>
              <a:ext cx="205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73880" y="47498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7388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7388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7388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94400" y="47293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4400" y="47293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94400" y="4749840"/>
              <a:ext cx="124956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4396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4396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43960" y="4729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43960" y="47293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43960" y="47293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7200" y="4749840"/>
              <a:ext cx="2088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57200" y="4749840"/>
              <a:ext cx="180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57200" y="5346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57200" y="5346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57200" y="5346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57200" y="5346720"/>
              <a:ext cx="20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57200" y="53467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57200" y="534672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78080" y="5346720"/>
              <a:ext cx="1514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78080" y="5346720"/>
              <a:ext cx="15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9260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9260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9260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9260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9260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13120" y="5346720"/>
              <a:ext cx="10731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913120" y="5346720"/>
              <a:ext cx="107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862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862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862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862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862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06800" y="5346720"/>
              <a:ext cx="11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06800" y="5346720"/>
              <a:ext cx="113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436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36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436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436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436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64200" y="5346720"/>
              <a:ext cx="1309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64200" y="5346720"/>
              <a:ext cx="130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7388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388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7388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388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388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94400" y="5346720"/>
              <a:ext cx="12495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4400" y="5346720"/>
              <a:ext cx="124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43960" y="4749840"/>
              <a:ext cx="2052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43960" y="4749840"/>
              <a:ext cx="1440" cy="59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74396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4396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4396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43960" y="5346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43960" y="53467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743960" y="534672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78920" y="5370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488680" y="4005360"/>
            <a:ext cx="1864800" cy="1952640"/>
            <a:chOff x="2488680" y="4005360"/>
            <a:chExt cx="1864800" cy="1952640"/>
          </a:xfrm>
        </p:grpSpPr>
        <p:sp>
          <p:nvSpPr>
            <p:cNvPr id="773" name=""/>
            <p:cNvSpPr/>
            <p:nvPr/>
          </p:nvSpPr>
          <p:spPr>
            <a:xfrm>
              <a:off x="2700360" y="4005360"/>
              <a:ext cx="1511280" cy="165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88680" y="558972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c0000"/>
                  </a:solidFill>
                  <a:latin typeface="Arial"/>
                </a:rPr>
                <a:t>Superpos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5076720" y="3068640"/>
            <a:ext cx="1511280" cy="1152360"/>
            <a:chOff x="5076720" y="3068640"/>
            <a:chExt cx="1511280" cy="1152360"/>
          </a:xfrm>
        </p:grpSpPr>
        <p:sp>
          <p:nvSpPr>
            <p:cNvPr id="776" name=""/>
            <p:cNvSpPr/>
            <p:nvPr/>
          </p:nvSpPr>
          <p:spPr>
            <a:xfrm>
              <a:off x="5076720" y="3068640"/>
              <a:ext cx="1511280" cy="1152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89640" y="33051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c0000"/>
                  </a:solidFill>
                  <a:latin typeface="Arial"/>
                </a:rPr>
                <a:t>Vací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1116000" y="2852640"/>
            <a:ext cx="142920" cy="18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7680" y="35719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val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1:25:14Z</dcterms:created>
  <dc:creator>ealos</dc:creator>
  <dc:description/>
  <dc:language>en-US</dc:language>
  <cp:lastModifiedBy>C.P.C.E.C.A.B.A.</cp:lastModifiedBy>
  <dcterms:modified xsi:type="dcterms:W3CDTF">2005-10-24T13:57:51Z</dcterms:modified>
  <cp:revision>5</cp:revision>
  <dc:subject/>
  <dc:title>Diapositiva 1</dc:title>
</cp:coreProperties>
</file>