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94A-211B-4FC2-B9BD-5569E9FF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D4E-599D-419E-B6B9-1F0A26D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6FB-BEC7-4C0B-8D30-C8B545B3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3AA-D814-47AC-B569-38254824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6B0-8BF2-4FAB-8B7B-30CA1C68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3CB3-3FAC-4834-9663-F15C6E0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31DC-663F-4560-914E-871F4FC4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0426-0B1C-4E4B-97CA-5862569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ADEE-54E2-4D52-968F-DB8C034D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01C0-4EBD-43A0-A0FA-D3EA2563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FFB3-0D35-4AAC-9893-573677DC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6A6-94E5-42ED-8A3C-9DC44653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B62C-5217-4FEE-A474-3743937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C312-E39C-44EE-96A4-A2BCD2F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4CB2-2C7E-4A07-BD9D-EA03EF91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C340-3D0C-42E4-80C1-3CF59B7B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D2B6-326B-4F9A-BD67-6B9F341C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A50-7176-4C8A-9616-89668CF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513-C549-4754-9019-F91A5F1E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359-BF4F-47AE-82D7-C1BD5115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36C-B0BD-43EB-B74D-B8B261B6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617-CD6C-48F5-84BF-2FE9C04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9C3-C8F2-4484-B3FD-B0057E03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81C-C6AE-453F-8629-B5EC48F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3da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3051-E2F3-4AAF-9E41-9F0E8FFF94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3da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E4F-E5EE-4667-A66D-79F77C52BC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NEUTRALIDAD, EFICIENCIA Y EQUIDAD EN EL DERECHO TRIBUTARIO COLOMBIAN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860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e debe evitar que los tributos determinen comportamientos, salvo que exista una razón constitucionalmente vál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30% del valor invertido en activos fijos productivos de renta, constituye una deducción adicional al gasto por depreciació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164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a Corte Constitucional ha resuelto los conflictos originados por las normas de incentivo en relación con los principios de igualdad y/o capacidad contributiva, tomando en cuenta los siguientes elementos de juici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°Legitimidad e importancia del fin buscad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°Que el medio utilizado no esté prohibido y sea conducente para conseguir el f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°Proporcionalidad/razonabilida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nsagrado expresamente como principio orientador del sistema tributario en el art. 363 de la Constitución Política de Colomb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structuración del tribut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Gravamen a los Movimientos Finanancieros. Predominio de lo puramente tributario, sobre el DERECHO tributari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stos mínimos de fiscalización y recaudo (acreedor o sujeto activ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stos mínimos de cumplimien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719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ficiencia vs. Equida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 tensión se presenta particularmente en relación con las disposiciones que contemplan mecanismos para enfrentar la evasión. Se mira además la necesidad del medio escogid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ficiencia vs. Derecho de defens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nsagrado expresamente en la Constitució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ARTICULO 363.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sistema tributario se funda en los principios de equidad, eficiencia y progresividad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RTICULO 95. (…) Son deberes de la persona y el ciudadan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(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9. Contribuir al financiamiento de los gastos e inversiones del Estado dentro de conceptos de justicia y equida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Corte Constitucional ha dicho que el principio de equidad tributaria se desenvuelve como DERECHO A LA IGUALDAD dentro del campo fiscal, en íntima correspondencia con el principio de generalidad del tributo, que de suyo constituye basamento del derecho a la igualdad frente a las cargas públic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O" sz="2900" spc="-1" strike="noStrike">
                <a:solidFill>
                  <a:srgbClr val="000000"/>
                </a:solidFill>
                <a:latin typeface="Verdana"/>
              </a:rPr>
              <a:t>Así, la equidad tributaria </a:t>
            </a:r>
            <a:r>
              <a:rPr b="0" i="1" lang="es-CO" sz="2900" spc="-1" strike="noStrike">
                <a:solidFill>
                  <a:srgbClr val="000000"/>
                </a:solidFill>
                <a:latin typeface="Verdana"/>
              </a:rPr>
              <a:t>es un criterio con base en el cual se pondera la distribución de las cargas y de los beneficios o la imposición de gravámenes entre los contribuyentes para evitar que haya cargas excesivas o beneficios  exagerados”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i bien la función esencial de los tributos es financiar la realización de los fines del Estado, también constituyen una herramienta de política económ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mnistías (eficiencia vs equida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equidad como argumento ante un tributo confiscator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equidad como sustento para que prime lo sustancial sobre lo formal (la “intentio juris deberá ser desplazada por la “intentio facti”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Fines extrafiscales del tribu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recho Promocional” (Norberto Bobbio). “El Derecho no es un fin en sí mismo, sino un instrumento para el logro de objetivos socialmente deseados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s frecuente que las normas a través de las cuales se realizan fines extrafiscales, entren en conflicto con los principios de capacidad económica y/o iguald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 es el director de la economía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Son fines esenciales del Estado…promover la prosperidad general y garantizar la efectividad de los principios, derechos y deberes consagrados en la Constitución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 protegerá especialmente a aquellas personas que por su su condición económica…se encuentren en circunstancias de debilidad manifiesta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…estimulará el desarrollo empresarial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El Estado de manera especial, intervendrá para dar pleno empleo a los recursos humanos y asegurar que todas las personas, en especial las de menores ingresos, tengan acceso efectivo a los bienes y servicios básicos. También promoverá la productividad y competitividad y el desarrollo armónico de las regiones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La utilidad en venta de acciones en Bolsa no constituye renta ni ganancia ocasional hasta un tope anual del 10% de las acciones en circulació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Hasta el 30% anual del ahorro para fines de pensión o adquisición de vivienda no constituye ingreso gravad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NEUTRALID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as inversiones en investigación científica y desarrollo tecnológico son deducibles en un 125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as empresas editoriales se encuentran exentas del impuesto de rent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Devolución de dos puntos del IVA a quienes paguen con tarjetas de crédito, débito o medios equivale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1:30:49Z</dcterms:created>
  <dc:creator>hp</dc:creator>
  <dc:description/>
  <dc:language>en-US</dc:language>
  <cp:lastModifiedBy>C.P.C.E.C.A.B.A.</cp:lastModifiedBy>
  <dcterms:modified xsi:type="dcterms:W3CDTF">2005-09-29T12:40:08Z</dcterms:modified>
  <cp:revision>40</cp:revision>
  <dc:subject/>
  <dc:title>INCENTIVOS – IMPUESTO DE RENTA</dc:title>
</cp:coreProperties>
</file>